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85A7-8CF0-4000-875A-D14ABE0F8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E6E8-59F8-438D-B284-CD4734E53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BE5C-9C75-4827-BF21-5C0D8F798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186F-5F4C-470E-BC55-A35701CA1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FED8-847A-4866-91D9-548AF2050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0DDA-66FA-4C35-BCF3-0AEB8B054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5F6A-2791-4775-A68D-93E6DD1EC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FE04-9CCA-4A3C-A9A5-95B1ACB22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2B9E-0831-4B3F-8F03-AD2A2D752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E7E3-6320-472F-BBD2-9629E021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B2A2-8D6B-422B-B2C7-DEA208AA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28A5-D1BE-4D35-8835-2FA2FEC1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0A5E2-FEA8-4DC2-A116-4391C5ED5F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DSC05701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.Саввушка Оптико-лазерный центр Алтайского кра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оительство труб в 2006 году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елка стыков монтажной пеной с последующим обработкой акватрон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5" descr="10100001 - копия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7" descr="10310004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уба в 2016год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DSC05694"/>
          <p:cNvPicPr/>
          <p:nvPr/>
        </p:nvPicPr>
        <p:blipFill>
          <a:blip r:embed="rId1"/>
          <a:stretch/>
        </p:blipFill>
        <p:spPr>
          <a:xfrm>
            <a:off x="250920" y="1989000"/>
            <a:ext cx="4038480" cy="388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DSC05691"/>
          <p:cNvPicPr/>
          <p:nvPr/>
        </p:nvPicPr>
        <p:blipFill>
          <a:blip r:embed="rId2"/>
          <a:stretch/>
        </p:blipFill>
        <p:spPr>
          <a:xfrm>
            <a:off x="4643280" y="1989000"/>
            <a:ext cx="40388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уба в 2016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DSC05690"/>
          <p:cNvPicPr/>
          <p:nvPr/>
        </p:nvPicPr>
        <p:blipFill>
          <a:blip r:embed="rId1"/>
          <a:stretch/>
        </p:blipFill>
        <p:spPr>
          <a:xfrm>
            <a:off x="755640" y="162864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DSC05686"/>
          <p:cNvPicPr/>
          <p:nvPr/>
        </p:nvPicPr>
        <p:blipFill>
          <a:blip r:embed="rId2"/>
          <a:stretch/>
        </p:blipFill>
        <p:spPr>
          <a:xfrm>
            <a:off x="4643280" y="1628640"/>
            <a:ext cx="40388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DSC05702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3T03:10:35Z</dcterms:created>
  <dc:creator>User</dc:creator>
  <dc:description/>
  <dc:language>en-US</dc:language>
  <cp:lastModifiedBy>1</cp:lastModifiedBy>
  <dcterms:modified xsi:type="dcterms:W3CDTF">2016-11-27T03:53:45Z</dcterms:modified>
  <cp:revision>2</cp:revision>
  <dc:subject/>
  <dc:title>с.Саввушка Оптико-лазерный центр Алтайского края</dc:title>
</cp:coreProperties>
</file>