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13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0.png" ContentType="image/png"/>
  <Override PartName="/ppt/media/image26.jpeg" ContentType="image/jpeg"/>
  <Override PartName="/ppt/media/image23.jpeg" ContentType="image/jpeg"/>
  <Override PartName="/ppt/media/image21.png" ContentType="image/png"/>
  <Override PartName="/ppt/media/image19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C833-E107-4FC0-AC08-AF487F9E95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470A-FF89-4D51-9466-050FAD85CA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1484-F03E-4E0B-B5B7-6211745494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F64F-C102-4684-9033-6000FB6989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8465-8B49-44C6-A5E3-2E205C57D9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A2E6-27AA-4A48-8C21-2F132A2587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9BB7-0174-4BD2-9E7E-ED32A4061A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6CF3-ADF2-4630-9AC3-366B1ACD5A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2A17-6F21-4EA5-A99D-4606D4A360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EB50-7BAB-48DF-B6F4-D68591C921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B39-CB57-4578-8ED2-DD3A00DE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B2A-AD14-451C-B4B4-511DBEBA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97F-5564-4EAB-AA1D-8CECB4C9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B6E-7D76-4CBD-B83D-62B4AC64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1801-9B37-4A01-B26C-6C742759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B9EA-A313-45AA-B861-E1DDDE8B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7299-6547-4A11-87D4-4D40CF7F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6335-7422-4D04-B410-B557598C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781F-89A5-43F3-80EB-F9F73F79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EA1C-7651-4978-81C5-7577E9FB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8A10-3009-486B-8C2B-8A1F3662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EAF-2C64-4FF7-8120-2A7FDF27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C991-6346-4C70-AEBE-FF387FBF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BD73-45A4-4BDF-8979-81D23A51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D9D3-D630-4FAF-85FD-4CCEAE4B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A968-7B8C-48EF-A82B-729C4AAB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0195-1914-4E05-83EF-EF40710A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80EE-6970-4606-A686-1D148E9A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9EBA-969D-4A06-8376-2C5DC731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A3A-E20C-4A2F-AFB0-8724AAAA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54E-935F-419F-9208-B40B7699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56C-46D0-41F9-A4B0-DD1414FA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D38-EBAF-479A-935A-91C8BD63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993-9F4F-4B19-83AE-56D4B57A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7C72-B6B0-438B-B94A-D27D2AA8A8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0DF9-FC8D-4134-9278-E883230B69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9" descr=""/>
          <p:cNvPicPr/>
          <p:nvPr/>
        </p:nvPicPr>
        <p:blipFill>
          <a:blip r:embed="rId1"/>
          <a:stretch/>
        </p:blipFill>
        <p:spPr>
          <a:xfrm>
            <a:off x="11160" y="-55440"/>
            <a:ext cx="9144000" cy="6858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0" name="Схема 14" descr=""/>
          <p:cNvPicPr/>
          <p:nvPr/>
        </p:nvPicPr>
        <p:blipFill>
          <a:blip r:embed="rId2"/>
          <a:stretch/>
        </p:blipFill>
        <p:spPr>
          <a:xfrm>
            <a:off x="49320" y="901800"/>
            <a:ext cx="9101160" cy="6205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8172360" y="115920"/>
            <a:ext cx="846360" cy="81756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2" name="Рисунок 5" descr=""/>
          <p:cNvPicPr/>
          <p:nvPr/>
        </p:nvPicPr>
        <p:blipFill>
          <a:blip r:embed="rId4"/>
          <a:stretch/>
        </p:blipFill>
        <p:spPr>
          <a:xfrm>
            <a:off x="5688000" y="2054160"/>
            <a:ext cx="2260440" cy="1706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"/>
          <p:cNvPicPr/>
          <p:nvPr/>
        </p:nvPicPr>
        <p:blipFill>
          <a:blip r:embed="rId5"/>
          <a:stretch/>
        </p:blipFill>
        <p:spPr>
          <a:xfrm>
            <a:off x="7338960" y="3243240"/>
            <a:ext cx="248760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"/>
          <p:cNvPicPr/>
          <p:nvPr/>
        </p:nvPicPr>
        <p:blipFill>
          <a:blip r:embed="rId6"/>
          <a:stretch/>
        </p:blipFill>
        <p:spPr>
          <a:xfrm>
            <a:off x="7302600" y="5211720"/>
            <a:ext cx="2523960" cy="1749600"/>
          </a:xfrm>
          <a:prstGeom prst="rect">
            <a:avLst/>
          </a:prstGeom>
          <a:ln w="0">
            <a:noFill/>
          </a:ln>
        </p:spPr>
      </p:pic>
      <p:sp>
        <p:nvSpPr>
          <p:cNvPr id="95" name="Стрелка вправо 8"/>
          <p:cNvSpPr/>
          <p:nvPr/>
        </p:nvSpPr>
        <p:spPr>
          <a:xfrm rot="20893200">
            <a:off x="2128320" y="198000"/>
            <a:ext cx="4470480" cy="13874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7964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Группа 9"/>
          <p:cNvGrpSpPr/>
          <p:nvPr/>
        </p:nvGrpSpPr>
        <p:grpSpPr>
          <a:xfrm>
            <a:off x="2045520" y="324000"/>
            <a:ext cx="4079520" cy="1246320"/>
            <a:chOff x="2045520" y="324000"/>
            <a:chExt cx="4079520" cy="1246320"/>
          </a:xfrm>
        </p:grpSpPr>
        <p:sp>
          <p:nvSpPr>
            <p:cNvPr id="97" name="Скругленный прямоугольник 10"/>
            <p:cNvSpPr/>
            <p:nvPr/>
          </p:nvSpPr>
          <p:spPr>
            <a:xfrm rot="20914800">
              <a:off x="2339280" y="711000"/>
              <a:ext cx="3465360" cy="497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Скругленный прямоугольник 4"/>
            <p:cNvSpPr/>
            <p:nvPr/>
          </p:nvSpPr>
          <p:spPr>
            <a:xfrm rot="20940600">
              <a:off x="2053800" y="706680"/>
              <a:ext cx="406224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ООО «Стройсервис»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10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3376440" y="390600"/>
            <a:ext cx="2524320" cy="4711680"/>
          </a:xfrm>
          <a:prstGeom prst="rect">
            <a:avLst/>
          </a:prstGeom>
          <a:ln w="0">
            <a:noFill/>
          </a:ln>
        </p:spPr>
      </p:pic>
      <p:pic>
        <p:nvPicPr>
          <p:cNvPr id="185" name="Группа 6" descr=""/>
          <p:cNvPicPr/>
          <p:nvPr/>
        </p:nvPicPr>
        <p:blipFill>
          <a:blip r:embed="rId3"/>
          <a:stretch/>
        </p:blipFill>
        <p:spPr>
          <a:xfrm>
            <a:off x="2859120" y="2719440"/>
            <a:ext cx="3602160" cy="792000"/>
          </a:xfrm>
          <a:prstGeom prst="rect">
            <a:avLst/>
          </a:prstGeom>
          <a:ln w="0">
            <a:noFill/>
          </a:ln>
        </p:spPr>
      </p:pic>
      <p:grpSp>
        <p:nvGrpSpPr>
          <p:cNvPr id="186" name="TextBox 7"/>
          <p:cNvGrpSpPr/>
          <p:nvPr/>
        </p:nvGrpSpPr>
        <p:grpSpPr>
          <a:xfrm>
            <a:off x="725400" y="3511440"/>
            <a:ext cx="7212240" cy="1219320"/>
            <a:chOff x="725400" y="3511440"/>
            <a:chExt cx="7212240" cy="1219320"/>
          </a:xfrm>
        </p:grpSpPr>
        <p:pic>
          <p:nvPicPr>
            <p:cNvPr id="187" name="TextBox 7" descr=""/>
            <p:cNvPicPr/>
            <p:nvPr/>
          </p:nvPicPr>
          <p:blipFill>
            <a:blip r:embed="rId4"/>
            <a:stretch/>
          </p:blipFill>
          <p:spPr>
            <a:xfrm>
              <a:off x="725400" y="3511440"/>
              <a:ext cx="72122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352880" y="3645000"/>
              <a:ext cx="6406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Спасибо за внимание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0" descr=""/>
          <p:cNvPicPr/>
          <p:nvPr/>
        </p:nvPicPr>
        <p:blipFill>
          <a:blip r:embed="rId1"/>
          <a:stretch/>
        </p:blipFill>
        <p:spPr>
          <a:xfrm>
            <a:off x="22320" y="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Стрелка вправо 48"/>
          <p:cNvSpPr/>
          <p:nvPr/>
        </p:nvSpPr>
        <p:spPr>
          <a:xfrm>
            <a:off x="262080" y="0"/>
            <a:ext cx="8664480" cy="836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пененный битум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яжущее, получаемое путем впрыскивания воды в битум, разогретый до температуры от 130°С до 160°С, непосредственно в момент ввода битумного вяжущего в камеру смешивания асфальтобетонной смеси.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ДМ 218.2.042-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тодические рекомендации «Теплые асфальтобетонные смеси. Рекомендации по применению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Издан на основании приказа ФДА от 30.04.2014г № 847-р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43280" y="2500200"/>
          <a:ext cx="4038840" cy="2667240"/>
        </p:xfrm>
        <a:graphic>
          <a:graphicData uri="http://schemas.openxmlformats.org/drawingml/2006/table">
            <a:tbl>
              <a:tblPr/>
              <a:tblGrid>
                <a:gridCol w="1009800"/>
                <a:gridCol w="1009800"/>
                <a:gridCol w="1009440"/>
                <a:gridCol w="1009800"/>
              </a:tblGrid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-вание матери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пература нагрева, материала в зависимости от показателя пенет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20 до 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50 до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00 до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еб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-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-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-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с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-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-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-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ту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-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-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-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фальтобе- тонная смес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-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-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-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ОО «Стройсерви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4"/>
          <p:cNvSpPr/>
          <p:nvPr/>
        </p:nvSpPr>
        <p:spPr>
          <a:xfrm>
            <a:off x="5499000" y="6494400"/>
            <a:ext cx="345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Группа 45"/>
          <p:cNvGrpSpPr/>
          <p:nvPr/>
        </p:nvGrpSpPr>
        <p:grpSpPr>
          <a:xfrm>
            <a:off x="488880" y="260280"/>
            <a:ext cx="7828200" cy="330120"/>
            <a:chOff x="488880" y="260280"/>
            <a:chExt cx="7828200" cy="330120"/>
          </a:xfrm>
        </p:grpSpPr>
        <p:sp>
          <p:nvSpPr>
            <p:cNvPr id="107" name="Скругленный прямоугольник 46"/>
            <p:cNvSpPr/>
            <p:nvPr/>
          </p:nvSpPr>
          <p:spPr>
            <a:xfrm>
              <a:off x="488880" y="260280"/>
              <a:ext cx="7828200" cy="3301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Скругленный прямоугольник 4"/>
            <p:cNvSpPr/>
            <p:nvPr/>
          </p:nvSpPr>
          <p:spPr>
            <a:xfrm>
              <a:off x="504720" y="260280"/>
              <a:ext cx="78123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Применение вспененного битума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0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Стрелка вправо 48"/>
          <p:cNvSpPr/>
          <p:nvPr/>
        </p:nvSpPr>
        <p:spPr>
          <a:xfrm>
            <a:off x="355680" y="-179280"/>
            <a:ext cx="8773920" cy="15303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А ВСПЕНИВАНИЯ БИТУМ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MMANN FOA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сфальтосмесительный заво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GLO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2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стема вспенивания бит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ОО «Стройсерви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Группа 45"/>
          <p:cNvGrpSpPr/>
          <p:nvPr/>
        </p:nvGrpSpPr>
        <p:grpSpPr>
          <a:xfrm>
            <a:off x="900000" y="260280"/>
            <a:ext cx="7594560" cy="500040"/>
            <a:chOff x="900000" y="260280"/>
            <a:chExt cx="7594560" cy="500040"/>
          </a:xfrm>
        </p:grpSpPr>
        <p:sp>
          <p:nvSpPr>
            <p:cNvPr id="116" name="Скругленный прямоугольник 46"/>
            <p:cNvSpPr/>
            <p:nvPr/>
          </p:nvSpPr>
          <p:spPr>
            <a:xfrm>
              <a:off x="955440" y="260280"/>
              <a:ext cx="7539120" cy="5000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Скругленный прямоугольник 4"/>
            <p:cNvSpPr/>
            <p:nvPr/>
          </p:nvSpPr>
          <p:spPr>
            <a:xfrm>
              <a:off x="900000" y="260280"/>
              <a:ext cx="75232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СИСТЕМА ВСПЕНИВАНИЯ БИТУМА 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AMMANN FOA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" name="Picture 18" descr=""/>
          <p:cNvPicPr/>
          <p:nvPr/>
        </p:nvPicPr>
        <p:blipFill>
          <a:blip r:embed="rId2"/>
          <a:stretch/>
        </p:blipFill>
        <p:spPr>
          <a:xfrm>
            <a:off x="4578480" y="2643120"/>
            <a:ext cx="4417920" cy="3162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D:\Фотографии\2016\омск\Дороги Омска\20160823_141240.jpg"/>
          <p:cNvPicPr/>
          <p:nvPr/>
        </p:nvPicPr>
        <p:blipFill>
          <a:blip r:embed="rId3"/>
          <a:stretch/>
        </p:blipFill>
        <p:spPr>
          <a:xfrm>
            <a:off x="457200" y="2671920"/>
            <a:ext cx="3828960" cy="3114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0" descr=""/>
          <p:cNvPicPr/>
          <p:nvPr/>
        </p:nvPicPr>
        <p:blipFill>
          <a:blip r:embed="rId1"/>
          <a:stretch/>
        </p:blipFill>
        <p:spPr>
          <a:xfrm>
            <a:off x="-4680" y="-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Стрелка вправо 48"/>
          <p:cNvSpPr/>
          <p:nvPr/>
        </p:nvSpPr>
        <p:spPr>
          <a:xfrm>
            <a:off x="262080" y="0"/>
            <a:ext cx="8664480" cy="836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46400" y="6454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ОО «Стройсерви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Группа 45"/>
          <p:cNvGrpSpPr/>
          <p:nvPr/>
        </p:nvGrpSpPr>
        <p:grpSpPr>
          <a:xfrm>
            <a:off x="488880" y="260280"/>
            <a:ext cx="7828200" cy="330120"/>
            <a:chOff x="488880" y="260280"/>
            <a:chExt cx="7828200" cy="330120"/>
          </a:xfrm>
        </p:grpSpPr>
        <p:sp>
          <p:nvSpPr>
            <p:cNvPr id="124" name="Скругленный прямоугольник 46"/>
            <p:cNvSpPr/>
            <p:nvPr/>
          </p:nvSpPr>
          <p:spPr>
            <a:xfrm>
              <a:off x="488880" y="260280"/>
              <a:ext cx="7828200" cy="3301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Скругленный прямоугольник 4"/>
            <p:cNvSpPr/>
            <p:nvPr/>
          </p:nvSpPr>
          <p:spPr>
            <a:xfrm>
              <a:off x="504720" y="260280"/>
              <a:ext cx="78123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Схема и узлы вспенивающего устройств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14"/>
          <p:cNvSpPr/>
          <p:nvPr/>
        </p:nvSpPr>
        <p:spPr>
          <a:xfrm>
            <a:off x="712800" y="3051000"/>
            <a:ext cx="24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ХЕМА  УСТАНОВКИ                                     УЗЛЫ ВСПЕНИВА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ВСПЕНИ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3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4316400" cy="37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Object 24"/>
          <p:cNvGraphicFramePr/>
          <p:nvPr/>
        </p:nvGraphicFramePr>
        <p:xfrm>
          <a:off x="4653000" y="1596960"/>
          <a:ext cx="4027320" cy="217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3000" y="1596960"/>
                    <a:ext cx="4027320" cy="21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Picture 25" descr=""/>
          <p:cNvPicPr/>
          <p:nvPr/>
        </p:nvPicPr>
        <p:blipFill>
          <a:blip r:embed="rId5"/>
          <a:stretch/>
        </p:blipFill>
        <p:spPr>
          <a:xfrm>
            <a:off x="4932360" y="3789360"/>
            <a:ext cx="3745080" cy="2028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6" descr=""/>
          <p:cNvPicPr/>
          <p:nvPr/>
        </p:nvPicPr>
        <p:blipFill>
          <a:blip r:embed="rId6"/>
          <a:stretch/>
        </p:blipFill>
        <p:spPr>
          <a:xfrm>
            <a:off x="5003640" y="1484280"/>
            <a:ext cx="3410280" cy="212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Стрелка вправо 48"/>
          <p:cNvSpPr/>
          <p:nvPr/>
        </p:nvSpPr>
        <p:spPr>
          <a:xfrm>
            <a:off x="355680" y="-179280"/>
            <a:ext cx="8773920" cy="15303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ижний колонтитул 4"/>
          <p:cNvSpPr/>
          <p:nvPr/>
        </p:nvSpPr>
        <p:spPr>
          <a:xfrm>
            <a:off x="3146400" y="6454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ОО «Стройсерви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Группа 45"/>
          <p:cNvGrpSpPr/>
          <p:nvPr/>
        </p:nvGrpSpPr>
        <p:grpSpPr>
          <a:xfrm>
            <a:off x="488880" y="476280"/>
            <a:ext cx="7539120" cy="576360"/>
            <a:chOff x="488880" y="476280"/>
            <a:chExt cx="7539120" cy="576360"/>
          </a:xfrm>
        </p:grpSpPr>
        <p:sp>
          <p:nvSpPr>
            <p:cNvPr id="137" name="Скругленный прямоугольник 46"/>
            <p:cNvSpPr/>
            <p:nvPr/>
          </p:nvSpPr>
          <p:spPr>
            <a:xfrm>
              <a:off x="488880" y="476280"/>
              <a:ext cx="7539120" cy="5763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Скругленный прямоугольник 4"/>
            <p:cNvSpPr/>
            <p:nvPr/>
          </p:nvSpPr>
          <p:spPr>
            <a:xfrm>
              <a:off x="504720" y="476280"/>
              <a:ext cx="752328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ЗЛЫ ВСПЕНИВАЮЩЕГО УСТРОЙ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8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9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0" descr=""/>
          <p:cNvPicPr/>
          <p:nvPr/>
        </p:nvPicPr>
        <p:blipFill>
          <a:blip r:embed="rId4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1" descr=""/>
          <p:cNvPicPr/>
          <p:nvPr/>
        </p:nvPicPr>
        <p:blipFill>
          <a:blip r:embed="rId5"/>
          <a:stretch/>
        </p:blipFill>
        <p:spPr>
          <a:xfrm>
            <a:off x="4643280" y="3933720"/>
            <a:ext cx="4038840" cy="2187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Стрелка вправо 48"/>
          <p:cNvSpPr/>
          <p:nvPr/>
        </p:nvSpPr>
        <p:spPr>
          <a:xfrm>
            <a:off x="355680" y="-179280"/>
            <a:ext cx="8773920" cy="15303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Группа 45"/>
          <p:cNvGrpSpPr/>
          <p:nvPr/>
        </p:nvGrpSpPr>
        <p:grpSpPr>
          <a:xfrm>
            <a:off x="488880" y="260280"/>
            <a:ext cx="7539120" cy="649440"/>
            <a:chOff x="488880" y="260280"/>
            <a:chExt cx="7539120" cy="649440"/>
          </a:xfrm>
        </p:grpSpPr>
        <p:sp>
          <p:nvSpPr>
            <p:cNvPr id="147" name="Скругленный прямоугольник 46"/>
            <p:cNvSpPr/>
            <p:nvPr/>
          </p:nvSpPr>
          <p:spPr>
            <a:xfrm>
              <a:off x="488880" y="260280"/>
              <a:ext cx="7539120" cy="6494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Скругленный прямоугольник 4"/>
            <p:cNvSpPr/>
            <p:nvPr/>
          </p:nvSpPr>
          <p:spPr>
            <a:xfrm>
              <a:off x="504720" y="260280"/>
              <a:ext cx="752328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TextBox 15"/>
          <p:cNvSpPr/>
          <p:nvPr/>
        </p:nvSpPr>
        <p:spPr>
          <a:xfrm>
            <a:off x="223920" y="6189840"/>
            <a:ext cx="3074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АЧЕСТВО ВСПЕНЕННОГО БИТУМ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Содержимое 27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273528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4648320" y="1600200"/>
          <a:ext cx="4038480" cy="22255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держание воды, % от биту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и физико-механических свойств пористая к/з М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 плотность, гр\см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онасыщение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53" name="Picture 37" descr="Изображение 223"/>
          <p:cNvPicPr/>
          <p:nvPr/>
        </p:nvPicPr>
        <p:blipFill>
          <a:blip r:embed="rId3"/>
          <a:stretch/>
        </p:blipFill>
        <p:spPr>
          <a:xfrm>
            <a:off x="1042920" y="3429000"/>
            <a:ext cx="2519280" cy="1419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8" descr="Изображение 225"/>
          <p:cNvPicPr/>
          <p:nvPr/>
        </p:nvPicPr>
        <p:blipFill>
          <a:blip r:embed="rId4"/>
          <a:stretch/>
        </p:blipFill>
        <p:spPr>
          <a:xfrm>
            <a:off x="1116000" y="5013360"/>
            <a:ext cx="2523960" cy="1409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9" descr=""/>
          <p:cNvPicPr/>
          <p:nvPr/>
        </p:nvPicPr>
        <p:blipFill>
          <a:blip r:embed="rId5"/>
          <a:stretch/>
        </p:blipFill>
        <p:spPr>
          <a:xfrm>
            <a:off x="4427640" y="4221000"/>
            <a:ext cx="4425840" cy="151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Стрелка вправо 48"/>
          <p:cNvSpPr/>
          <p:nvPr/>
        </p:nvSpPr>
        <p:spPr>
          <a:xfrm>
            <a:off x="355680" y="-179280"/>
            <a:ext cx="8773920" cy="15303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Группа 45"/>
          <p:cNvGrpSpPr/>
          <p:nvPr/>
        </p:nvGrpSpPr>
        <p:grpSpPr>
          <a:xfrm>
            <a:off x="488880" y="260280"/>
            <a:ext cx="7539120" cy="649440"/>
            <a:chOff x="488880" y="260280"/>
            <a:chExt cx="7539120" cy="649440"/>
          </a:xfrm>
        </p:grpSpPr>
        <p:sp>
          <p:nvSpPr>
            <p:cNvPr id="159" name="Скругленный прямоугольник 46"/>
            <p:cNvSpPr/>
            <p:nvPr/>
          </p:nvSpPr>
          <p:spPr>
            <a:xfrm>
              <a:off x="488880" y="260280"/>
              <a:ext cx="7539120" cy="6494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Скругленный прямоугольник 4"/>
            <p:cNvSpPr/>
            <p:nvPr/>
          </p:nvSpPr>
          <p:spPr>
            <a:xfrm>
              <a:off x="504720" y="260280"/>
              <a:ext cx="752328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ИЗВОДСТВО АСФАЛЬТОБЕТОННЫХ СМЕС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24"/>
          <p:cNvSpPr/>
          <p:nvPr/>
        </p:nvSpPr>
        <p:spPr>
          <a:xfrm>
            <a:off x="1836360" y="412920"/>
            <a:ext cx="48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ИЗВОДСТВО АСФАЛЬТОБЕТОННЫХ СМЕС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5" descr="Изображение 222"/>
          <p:cNvPicPr/>
          <p:nvPr/>
        </p:nvPicPr>
        <p:blipFill>
          <a:blip r:embed="rId2"/>
          <a:stretch/>
        </p:blipFill>
        <p:spPr>
          <a:xfrm>
            <a:off x="250920" y="1268280"/>
            <a:ext cx="3897360" cy="2192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6" descr="Изображение 218"/>
          <p:cNvPicPr/>
          <p:nvPr/>
        </p:nvPicPr>
        <p:blipFill>
          <a:blip r:embed="rId3"/>
          <a:stretch/>
        </p:blipFill>
        <p:spPr>
          <a:xfrm>
            <a:off x="395280" y="4076640"/>
            <a:ext cx="4105440" cy="2521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7" descr="Изображение 226"/>
          <p:cNvPicPr/>
          <p:nvPr/>
        </p:nvPicPr>
        <p:blipFill>
          <a:blip r:embed="rId4"/>
          <a:stretch/>
        </p:blipFill>
        <p:spPr>
          <a:xfrm>
            <a:off x="4716360" y="1341360"/>
            <a:ext cx="4038840" cy="2271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8" descr="Изображение 230"/>
          <p:cNvPicPr/>
          <p:nvPr/>
        </p:nvPicPr>
        <p:blipFill>
          <a:blip r:embed="rId5"/>
          <a:stretch/>
        </p:blipFill>
        <p:spPr>
          <a:xfrm>
            <a:off x="4859280" y="4076640"/>
            <a:ext cx="3960720" cy="2441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Стрелка вправо 48"/>
          <p:cNvSpPr/>
          <p:nvPr/>
        </p:nvSpPr>
        <p:spPr>
          <a:xfrm>
            <a:off x="355680" y="-179280"/>
            <a:ext cx="8773920" cy="15303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Группа 45"/>
          <p:cNvGrpSpPr/>
          <p:nvPr/>
        </p:nvGrpSpPr>
        <p:grpSpPr>
          <a:xfrm>
            <a:off x="488880" y="260280"/>
            <a:ext cx="7539120" cy="649440"/>
            <a:chOff x="488880" y="260280"/>
            <a:chExt cx="7539120" cy="649440"/>
          </a:xfrm>
        </p:grpSpPr>
        <p:sp>
          <p:nvSpPr>
            <p:cNvPr id="170" name="Скругленный прямоугольник 46"/>
            <p:cNvSpPr/>
            <p:nvPr/>
          </p:nvSpPr>
          <p:spPr>
            <a:xfrm>
              <a:off x="488880" y="260280"/>
              <a:ext cx="7539120" cy="6494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Скругленный прямоугольник 4"/>
            <p:cNvSpPr/>
            <p:nvPr/>
          </p:nvSpPr>
          <p:spPr>
            <a:xfrm>
              <a:off x="504720" y="260280"/>
              <a:ext cx="752328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АЧЕСТВО АСФАЛЬТОБЕТОННЫХ СМЕСЕ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КАЗАТЕЛИ ФИЗИКО-МЕХАНИЧЕСКИХ СВОЙСТВ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УПНОЗЕРНИСТОЙ ПОРИСТОЙ АСФАЛЬТОБЕТОННОЙ СМЕСИ МАРК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5880" y="2643120"/>
          <a:ext cx="7715160" cy="3921120"/>
        </p:xfrm>
        <a:graphic>
          <a:graphicData uri="http://schemas.openxmlformats.org/drawingml/2006/table">
            <a:tbl>
              <a:tblPr/>
              <a:tblGrid>
                <a:gridCol w="930240"/>
                <a:gridCol w="873000"/>
                <a:gridCol w="901800"/>
                <a:gridCol w="903240"/>
                <a:gridCol w="901800"/>
                <a:gridCol w="901800"/>
                <a:gridCol w="901440"/>
                <a:gridCol w="1401840"/>
              </a:tblGrid>
              <a:tr h="442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СМЕС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 ВЯЖУЩЕ-ГО/содержание, кг в 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И ФИКО-МЕХАНИЧЕСКИХ СВОЙ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 пло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онасыщение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ность при 50 гр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ность при 20гр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эффици-ент водостой-к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эффициент длительной водостойк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ячая крупнозернистая пористая асфальтобетонная смесь марк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НД 90/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НД 90/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кг+2,5%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НД 90/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кг+2,5%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Стрелка вправо 48"/>
          <p:cNvSpPr/>
          <p:nvPr/>
        </p:nvSpPr>
        <p:spPr>
          <a:xfrm>
            <a:off x="355680" y="-179280"/>
            <a:ext cx="8773920" cy="15303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Группа 45"/>
          <p:cNvGrpSpPr/>
          <p:nvPr/>
        </p:nvGrpSpPr>
        <p:grpSpPr>
          <a:xfrm>
            <a:off x="488880" y="260280"/>
            <a:ext cx="7539120" cy="649440"/>
            <a:chOff x="488880" y="260280"/>
            <a:chExt cx="7539120" cy="649440"/>
          </a:xfrm>
        </p:grpSpPr>
        <p:sp>
          <p:nvSpPr>
            <p:cNvPr id="178" name="Скругленный прямоугольник 46"/>
            <p:cNvSpPr/>
            <p:nvPr/>
          </p:nvSpPr>
          <p:spPr>
            <a:xfrm>
              <a:off x="488880" y="260280"/>
              <a:ext cx="7539120" cy="6494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Скругленный прямоугольник 4"/>
            <p:cNvSpPr/>
            <p:nvPr/>
          </p:nvSpPr>
          <p:spPr>
            <a:xfrm>
              <a:off x="504720" y="260280"/>
              <a:ext cx="752328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АЧЕСТВО А/Б  КЕРНОВ, ОТОБРАННЫХ ИЗ ПОКРЫТ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КАЗАТЕЛИ ФИЗИКО-МЕХАНИЧЕСКИХ СВОЙСТВ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ЕРНОВ, ОТОБРАННЫХ ИЗ НИЖНЕГО СЛОЯ ПОКРЫТИЯ А/Д Р-254 ЧЕЛЯБИНСК-КУРГАН-ОМСК-НОВОСИБИРСК. КМ 800+00-КМ 813+4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85840" y="2214720"/>
          <a:ext cx="8780400" cy="3900240"/>
        </p:xfrm>
        <a:graphic>
          <a:graphicData uri="http://schemas.openxmlformats.org/drawingml/2006/table">
            <a:tbl>
              <a:tblPr/>
              <a:tblGrid>
                <a:gridCol w="785880"/>
                <a:gridCol w="714240"/>
                <a:gridCol w="1335240"/>
                <a:gridCol w="828360"/>
                <a:gridCol w="828720"/>
                <a:gridCol w="828720"/>
                <a:gridCol w="827280"/>
                <a:gridCol w="828360"/>
                <a:gridCol w="828720"/>
                <a:gridCol w="974880"/>
              </a:tblGrid>
              <a:tr h="483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структивный сл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 вяжу-щ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став механи-зирован-ного отря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пературный интервал уплотнения на этап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проходов по одному сле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чения коэф. уплотне-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во-ритель-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-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лючи-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во-ритель-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-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лючи-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жний слой покры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я толщ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й 8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НД 90/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ок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RW - 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-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ок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MM 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ок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MM  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-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жний слой покры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я толщ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й 8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НД 90/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,5%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ок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RW - 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ок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MM 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-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ок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MM  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2T01:53:37Z</dcterms:created>
  <dc:creator>Centuryon</dc:creator>
  <dc:description/>
  <dc:language>en-US</dc:language>
  <cp:lastModifiedBy>DNA7 X86</cp:lastModifiedBy>
  <dcterms:modified xsi:type="dcterms:W3CDTF">2012-02-25T18:22:13Z</dcterms:modified>
  <cp:revision>110</cp:revision>
  <dc:subject/>
  <dc:title>PowerPoint Template</dc:title>
</cp:coreProperties>
</file>